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D73-63CA-4D4E-BE4A-D4F058AF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A13-3687-4907-A344-DFFC75D9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BD3-2F61-47DD-822F-651B695C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9A5-2D26-44DB-AD22-8BBD336A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BBE-5DC8-4C94-B85B-C86D77CE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F66-00B2-4383-8BE8-192DAFD8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55A-017B-4215-A2AD-6D1D14FF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18F-FE42-45CD-AD3B-6F15128D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9C0-F8E9-447A-94CF-7BDF81B4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D5C-D7A6-40B6-9F55-782D44F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B64-77BD-4A83-BA54-1403049B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AE1-B0F5-46C0-B1DA-02598570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6283-FD6A-4B18-85EB-B2D51A0725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4248000" cy="3887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303280" cy="1657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251928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300720" y="5013360"/>
            <a:ext cx="2640240" cy="1584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71640" y="4869000"/>
            <a:ext cx="230508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020000" y="278136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769080" y="333360"/>
            <a:ext cx="2374920" cy="172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132000" y="549360"/>
            <a:ext cx="2997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3328920"/>
            <a:ext cx="319104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57920" y="404640"/>
            <a:ext cx="3286080" cy="3057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76720" y="4292640"/>
            <a:ext cx="1704960" cy="211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7280" y="4365720"/>
            <a:ext cx="1686240" cy="197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404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lle fit un from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1680" y="1052640"/>
            <a:ext cx="53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n et ron petit pata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7640" y="170028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lle fit un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349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u lait de ses moutons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ron 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299736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u lait de ses mou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665440" cy="254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53120" y="0"/>
            <a:ext cx="2990880" cy="376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43280" y="2933640"/>
            <a:ext cx="3071880" cy="392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924360" y="4869000"/>
            <a:ext cx="1501560" cy="1755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050920" y="4797360"/>
            <a:ext cx="1952640" cy="113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549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 chat qui la regar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1680" y="1197000"/>
            <a:ext cx="53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n et ron petit pata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4200" y="18446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 chat qui la regar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492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’un petit air fripon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ron 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’un petit air frip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941720"/>
            <a:ext cx="8209080" cy="165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04640"/>
            <a:ext cx="18352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404640"/>
            <a:ext cx="1943280" cy="165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549360"/>
            <a:ext cx="1944720" cy="1657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549360"/>
            <a:ext cx="1800360" cy="1655640"/>
          </a:xfrm>
          <a:prstGeom prst="rect">
            <a:avLst/>
          </a:prstGeom>
          <a:solidFill>
            <a:srgbClr val="f9f9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349360"/>
            <a:ext cx="1692360" cy="1800360"/>
          </a:xfrm>
          <a:prstGeom prst="rect">
            <a:avLst/>
          </a:prstGeom>
          <a:solidFill>
            <a:srgbClr val="ee2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2349360"/>
            <a:ext cx="1871640" cy="1800360"/>
          </a:xfrm>
          <a:prstGeom prst="rect">
            <a:avLst/>
          </a:prstGeom>
          <a:solidFill>
            <a:srgbClr val="fb7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2492280"/>
            <a:ext cx="1873440" cy="18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349360"/>
            <a:ext cx="172872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653000"/>
            <a:ext cx="1908000" cy="1944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4581360"/>
            <a:ext cx="1942920" cy="194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4581360"/>
            <a:ext cx="2017800" cy="19432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4653000"/>
            <a:ext cx="1728720" cy="19447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360" y="2997360"/>
            <a:ext cx="2443320" cy="155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1919160" cy="2087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223200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0920" y="620640"/>
            <a:ext cx="2232000" cy="217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419640" y="692280"/>
            <a:ext cx="2033280" cy="1780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732720" y="47628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659640" y="2349360"/>
            <a:ext cx="2192400" cy="2664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395280" y="4797360"/>
            <a:ext cx="2089080" cy="1724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6948360" y="4848120"/>
            <a:ext cx="19432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9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216072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580000" y="0"/>
            <a:ext cx="2808360" cy="2421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9640" y="1916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hampign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234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poi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270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ro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068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jam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3500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i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8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choco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6530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oign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09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me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544500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cornich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5805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501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bonb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4437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sandwic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4 0 E">
                                      <p:cBhvr>
                                        <p:cTn id="20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687 -1.79191E-006 L 0.575 -1.79191E-006 E">
                                      <p:cBhvr>
                                        <p:cTn id="20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0023 L -0.62223 -0.00023 E">
                                      <p:cBhvr>
                                        <p:cTn id="20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6 -3.06358E-006 L 0.56684 -3.06358E-006 E">
                                      <p:cBhvr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25 -0.00023 L 0.24809 -0.00023 E">
                                      <p:cBhvr>
                                        <p:cTn id="21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0023 L -0.54723 -0.00023 E">
                                      <p:cBhvr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00023 L -0.57084 -0.00023 E">
                                      <p:cBhvr>
                                        <p:cTn id="21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50867E-006 L -0.2441 -4.50867E-006 E">
                                      <p:cBhvr>
                                        <p:cTn id="21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2.48555E-006 L -0.59861 2.48555E-006 E">
                                      <p:cBhvr>
                                        <p:cTn id="21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59280" y="90792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Arial"/>
              </a:rPr>
              <a:t>J’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234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Arial"/>
              </a:rPr>
              <a:t>J’a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789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Arial"/>
              </a:rPr>
              <a:t>Je n’aime 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5373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Arial"/>
              </a:rPr>
              <a:t>Je 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éte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43640" y="0"/>
            <a:ext cx="3600360" cy="34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3781440"/>
            <a:ext cx="844092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404640"/>
            <a:ext cx="5688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tait une bergè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n et ron petit pata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tait une bergè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 gardait ses mouton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n r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 gardait ses mou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6:38:41Z</dcterms:created>
  <dc:creator>jbiddle</dc:creator>
  <dc:description/>
  <dc:language>en-US</dc:language>
  <cp:lastModifiedBy>jbiddle</cp:lastModifiedBy>
  <dcterms:modified xsi:type="dcterms:W3CDTF">2008-11-29T21:42:51Z</dcterms:modified>
  <cp:revision>5</cp:revision>
  <dc:subject/>
  <dc:title>Slide 1</dc:title>
</cp:coreProperties>
</file>